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4B05-9BC5-44A9-83E7-909A7C41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9136-9B5B-425A-97CF-D4E6FC22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0A2B-29FB-41D2-BCA8-B22B7529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B77-A9F0-4B1B-9037-BD199B80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7B71-B378-4786-B383-25456E25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EE2D-65FB-41CF-8FAD-9E119E60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F8D5-2145-44EE-91E0-9A372DAF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995A-5040-4891-AFD5-9B26FEA6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E9AB-5532-4451-8301-CC1E05F8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7E87-3674-45E3-856B-90450E61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45C6-3955-4B81-AD1B-2130D8B1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8632-C387-4EB9-AFE5-EAFDEF34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2EEE-199E-4321-88A4-3A55BBD4F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chool-wires.wikispaces.com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gnment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upload any type of assignment on this pag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e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 return to the wik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on “New Pag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76320" y="1976400"/>
            <a:ext cx="9220320" cy="4881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00080" y="3198960"/>
            <a:ext cx="98748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“Assignment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320" y="2057400"/>
            <a:ext cx="9067680" cy="480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81080" y="4191120"/>
            <a:ext cx="1524240" cy="3045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your page, then click “Save”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Homework, Classwork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8080" y="4191120"/>
            <a:ext cx="121932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lect your page from your page l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43000" y="4876920"/>
            <a:ext cx="8380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4800600"/>
            <a:ext cx="16002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“New Assignment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52480" y="3276720"/>
            <a:ext cx="1981440" cy="5331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assignment, then type the assignment into the text bo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90720" y="4191120"/>
            <a:ext cx="10666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5562720"/>
            <a:ext cx="28954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er the “Date Assigned” &amp; the “Due Date”, add the assignment to your calendar, then click “Sav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320" y="2057400"/>
            <a:ext cx="9067680" cy="4800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09480" y="4724280"/>
            <a:ext cx="1524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5029200"/>
            <a:ext cx="144792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5334120"/>
            <a:ext cx="8380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5943600"/>
            <a:ext cx="60984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“Home” to return to your page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76320" y="1981080"/>
            <a:ext cx="9220320" cy="4881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00200" y="3048120"/>
            <a:ext cx="609480" cy="3045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01:19:38Z</dcterms:created>
  <dc:creator>%$#@1</dc:creator>
  <dc:description/>
  <dc:language>en-US</dc:language>
  <cp:lastModifiedBy>%$#@1</cp:lastModifiedBy>
  <dcterms:modified xsi:type="dcterms:W3CDTF">2010-04-27T01:19:41Z</dcterms:modified>
  <cp:revision>1</cp:revision>
  <dc:subject/>
  <dc:title>Assignment Page</dc:title>
</cp:coreProperties>
</file>